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7"/>
          <p:cNvSpPr/>
          <p:nvPr/>
        </p:nvSpPr>
        <p:spPr>
          <a:xfrm>
            <a:off x="0" y="2421000"/>
            <a:ext cx="9144000" cy="2232000"/>
          </a:xfrm>
          <a:prstGeom prst="rect">
            <a:avLst/>
          </a:prstGeom>
          <a:solidFill>
            <a:srgbClr val="ffc000">
              <a:alpha val="38000"/>
            </a:srgbClr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2800" y="193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Direct and Indirect Object Pronouns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By Mim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1201680" y="4149720"/>
            <a:ext cx="118440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8072280" y="2440080"/>
            <a:ext cx="1006560" cy="403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4"/>
          <a:stretch/>
        </p:blipFill>
        <p:spPr>
          <a:xfrm rot="2571000">
            <a:off x="4673160" y="3649680"/>
            <a:ext cx="1006560" cy="765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5">
            <a:lum contrast="-70000"/>
          </a:blip>
          <a:stretch/>
        </p:blipFill>
        <p:spPr>
          <a:xfrm rot="20313000">
            <a:off x="4094280" y="1549440"/>
            <a:ext cx="1598400" cy="1079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6"/>
          <a:stretch/>
        </p:blipFill>
        <p:spPr>
          <a:xfrm rot="14414400">
            <a:off x="729000" y="703800"/>
            <a:ext cx="122400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rect and Indirect Object Pronouns 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558800"/>
          <a:ext cx="8305920" cy="369900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480"/>
                <a:gridCol w="2076480"/>
              </a:tblGrid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French (Direct object pronou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English (Direct object pronou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French (Indirect object pronou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English (Indirect object pronouns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Me / m'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Me / m'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Te / t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Te / t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Le / la / l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Him/her/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Lu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Him/h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No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V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Vo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Th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L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t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31" descr=""/>
          <p:cNvPicPr/>
          <p:nvPr/>
        </p:nvPicPr>
        <p:blipFill>
          <a:blip r:embed="rId1"/>
          <a:stretch/>
        </p:blipFill>
        <p:spPr>
          <a:xfrm>
            <a:off x="3146400" y="2751120"/>
            <a:ext cx="118440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2" descr=""/>
          <p:cNvPicPr/>
          <p:nvPr/>
        </p:nvPicPr>
        <p:blipFill>
          <a:blip r:embed="rId2"/>
          <a:stretch/>
        </p:blipFill>
        <p:spPr>
          <a:xfrm>
            <a:off x="7480440" y="506520"/>
            <a:ext cx="1006200" cy="40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3" descr=""/>
          <p:cNvPicPr/>
          <p:nvPr/>
        </p:nvPicPr>
        <p:blipFill>
          <a:blip r:embed="rId3"/>
          <a:stretch/>
        </p:blipFill>
        <p:spPr>
          <a:xfrm rot="2571000">
            <a:off x="6070320" y="1252440"/>
            <a:ext cx="1006560" cy="765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4" descr=""/>
          <p:cNvPicPr/>
          <p:nvPr/>
        </p:nvPicPr>
        <p:blipFill>
          <a:blip r:embed="rId4">
            <a:lum contrast="-70000"/>
          </a:blip>
          <a:stretch/>
        </p:blipFill>
        <p:spPr>
          <a:xfrm rot="20313000">
            <a:off x="19080" y="5522760"/>
            <a:ext cx="1598760" cy="1079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5" descr=""/>
          <p:cNvPicPr/>
          <p:nvPr/>
        </p:nvPicPr>
        <p:blipFill>
          <a:blip r:embed="rId5"/>
          <a:stretch/>
        </p:blipFill>
        <p:spPr>
          <a:xfrm rot="14414400">
            <a:off x="-160920" y="951480"/>
            <a:ext cx="122364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ere do you place the direct pronouns? 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rect object pronou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lace the people or things tha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ce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action of the verb in a sent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noun com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l parts of the ver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471680" y="3643200"/>
            <a:ext cx="118404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3773520" y="1338120"/>
            <a:ext cx="1006560" cy="403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 rot="2571000">
            <a:off x="2026800" y="6307200"/>
            <a:ext cx="1006560" cy="76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4">
            <a:lum contrast="-70000"/>
          </a:blip>
          <a:stretch/>
        </p:blipFill>
        <p:spPr>
          <a:xfrm rot="20313000">
            <a:off x="3478320" y="5648400"/>
            <a:ext cx="1598400" cy="1079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5"/>
          <a:stretch/>
        </p:blipFill>
        <p:spPr>
          <a:xfrm flipH="1" rot="3615000">
            <a:off x="-59760" y="5780880"/>
            <a:ext cx="122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Examples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rect pronou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600200"/>
          <a:ext cx="8229600" cy="4548240"/>
        </p:xfrm>
        <a:graphic>
          <a:graphicData uri="http://schemas.openxmlformats.org/drawingml/2006/table">
            <a:tbl>
              <a:tblPr/>
              <a:tblGrid>
                <a:gridCol w="2743200"/>
                <a:gridCol w="2741760"/>
                <a:gridCol w="2744640"/>
              </a:tblGrid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te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erfect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e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tens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le mang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 le regard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Nous les avons mang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la voi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les aim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Je les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ai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aimé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3840" y="412920"/>
            <a:ext cx="82580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ere do you place the indirect pronouns? 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direct object pronou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lace the people in a sentenc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/for who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action of the verb occ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nch indirect object pronouns are usually placed 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o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verb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160880" y="5146560"/>
            <a:ext cx="1184400" cy="1295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1030320" y="5908680"/>
            <a:ext cx="1006560" cy="403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 rot="2571000">
            <a:off x="6918480" y="4789440"/>
            <a:ext cx="1006200" cy="765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4">
            <a:lum contrast="-70000"/>
          </a:blip>
          <a:stretch/>
        </p:blipFill>
        <p:spPr>
          <a:xfrm rot="20313000">
            <a:off x="3833640" y="3836880"/>
            <a:ext cx="1598760" cy="107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5"/>
          <a:stretch/>
        </p:blipFill>
        <p:spPr>
          <a:xfrm rot="14414400">
            <a:off x="921600" y="1284840"/>
            <a:ext cx="122400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Examples of i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rect pronou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193240" cy="4487760"/>
        </p:xfrm>
        <a:graphic>
          <a:graphicData uri="http://schemas.openxmlformats.org/drawingml/2006/table">
            <a:tbl>
              <a:tblPr/>
              <a:tblGrid>
                <a:gridCol w="2743200"/>
                <a:gridCol w="2741760"/>
                <a:gridCol w="2708280"/>
              </a:tblGrid>
              <a:tr h="14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tens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erfect te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tens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Elle lui écrit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vous donn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le pai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Je lui ai donné un livr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lui par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Elle lui écriv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ai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Il leur a payé un caf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7:27:00Z</dcterms:created>
  <dc:creator>PNHS Student</dc:creator>
  <dc:description/>
  <cp:keywords/>
  <dc:language>en-US</dc:language>
  <cp:lastModifiedBy>PNHS Student</cp:lastModifiedBy>
  <dcterms:modified xsi:type="dcterms:W3CDTF">2013-01-30T12:46:4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